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ECC9-FCA7-4E40-9D3E-57311DB89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AE1F-898C-4515-A707-3B90EB84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B39C-60EB-4096-AE03-A9F10DC66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8F64-6A52-4E35-B7D2-B3744AFA3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DD25-BEBA-4A1F-9606-C8D2D538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48C5-408D-4BC6-81CD-E86DF018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9625-DF7C-4BEE-A3BD-378C7647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D4A4-7FB4-49D6-B3C2-6F08BB9D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36C8-C0FE-43C7-AC3B-AB0DBA83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2704-89B7-4D67-9448-54348170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F2ED-A734-4402-B3E3-7373C438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AD7E-765F-43D3-A209-C959B704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EEB5-3F1B-4A27-998B-6D95E1FC5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cultural Austra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by Z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10044000" cy="6816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35280" y="475560"/>
            <a:ext cx="59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Amo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young woman from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dane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ckgrou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41228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has arrived on her own and her families are still 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ugee camps in Keny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57300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has never lived in a city, but has caught on quickly working ou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transpor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511600" y="4149000"/>
            <a:ext cx="450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wants to learn how the system work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3200" y="4723560"/>
            <a:ext cx="89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wants to keep improving her English and doesn’t know what work she wants to 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30960" y="6339240"/>
            <a:ext cx="900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he feels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solat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isn’t actively involved with the Sudanese community though she would like to b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MP900180172[1]" descr=""/>
          <p:cNvPicPr/>
          <p:nvPr/>
        </p:nvPicPr>
        <p:blipFill>
          <a:blip r:embed="rId2"/>
          <a:stretch/>
        </p:blipFill>
        <p:spPr>
          <a:xfrm>
            <a:off x="8675640" y="5929200"/>
            <a:ext cx="1419120" cy="928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119960" y="2997360"/>
            <a:ext cx="31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is 22 and lives by he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rcRect l="14611" t="0" r="13014" b="0"/>
          <a:stretch/>
        </p:blipFill>
        <p:spPr>
          <a:xfrm>
            <a:off x="7885080" y="0"/>
            <a:ext cx="2120760" cy="1476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08000" cy="1263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2556000" y="1916280"/>
            <a:ext cx="1184040" cy="887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395280" y="5013360"/>
            <a:ext cx="15238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1:53:06Z</dcterms:created>
  <dc:creator>RAC</dc:creator>
  <dc:description/>
  <dc:language>en-US</dc:language>
  <cp:lastModifiedBy>RAC</cp:lastModifiedBy>
  <dcterms:modified xsi:type="dcterms:W3CDTF">2010-09-09T02:57:26Z</dcterms:modified>
  <cp:revision>2</cp:revision>
  <dc:subject/>
  <dc:title>Multicultural Australia</dc:title>
</cp:coreProperties>
</file>